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08F-634A-407C-B280-9A95F50F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CB7-2317-4F89-9C2E-B7EA3348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291D9-BF6A-4E26-8964-E6140945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2F106-A036-4AA9-AE4B-712BCF12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E1806-3ADF-44C7-81F3-C8C40B9B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74626-4CD4-4952-8868-66613D6D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84848-5648-4CFF-986B-8A3964E2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BA8AE-77FE-4A61-8468-A55888D9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94323-8539-4B74-B535-2B7C5C0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89BE5-CCDB-4295-A4A7-B46A5D5A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34FD3-4F37-4163-A0A1-87B12E08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9BEA6-33D8-49AB-880E-1BAA3F52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CE0-36AE-4A7F-8D11-EF056663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651DF-9DCA-4DE7-AC82-1E691570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D200F-5E11-4E12-A223-BA714851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10CBA-7274-4FFD-AA7E-BD3E50B2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8AF4B-F0CF-438B-B836-5DDD4771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B8008-C65E-4A96-9C4C-6823499E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2E568-6473-4CFB-842A-84B8C9C8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09762-4E47-4DAC-A5F0-84F6B9D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628EE-3E8E-416F-BC6A-9DED8F0A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81EA5-DBF0-44C2-9C75-475B3F27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2D149-B4D0-407D-8121-258619D4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86A-7CB9-41EF-BDBD-7123C332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434A2-A9F5-4CC3-B9DE-C8B11FEA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7D812-3358-4B82-B39B-5FD0A391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DFB2F-6807-4D70-9529-D8B8065B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6B4AB-3024-4900-874C-E54D4021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12C52-61F8-49FC-9AE2-63585EB3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3F707-756A-4204-B5A1-1DA1AA9E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E483E-3DB8-4B5F-AF4E-B157056B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03A31-5856-4478-BFE2-7381F690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F674B-8A87-448A-8B5F-8AF2B038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CB049-34A8-448B-973D-EF5CC0B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4E25-E1D3-4FC2-9256-B44BC7EB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38367-B3FF-4FBF-BB08-7FBB75C6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3DF77-A5E7-4B70-9A4B-FA578CDA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0A056-92C2-4FE2-899E-D7331B6B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983FB-889D-4F93-BFAB-F2CC28B4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00E3A-A803-47ED-846C-87B7E727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D7862-4996-4117-AB49-71A85FF6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898E3-567F-4E39-91AF-E33279C0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6B98F-C7CB-49E5-AABB-F94464AC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1C73C-B0A8-4535-B647-57C9FA08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504E0-F9D7-4448-8B69-24958513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555D-BE74-44A5-AA1D-6F2746E5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06861-D746-4EF5-867D-C61D112F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D3FAF-2762-4D21-BAA8-D6EDEE16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80307-3AC5-4C4A-9BA7-95D1DF1A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81854-BC5A-4CBE-8AAB-7D8ACD49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DB848-3649-4E8B-A95C-79242FD9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02FD2-EB1B-4E6F-836A-E335882B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5A066-6457-4E15-8AD3-68839EE9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10883-6429-4D6C-A2D9-19AC7823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F82CB-DC98-4ADC-9583-2D432AC8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5D6AC-67AB-46CF-B54B-B358F88C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AAF2-7D77-4876-A1C2-07A5E50B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C34BC-F540-460B-9FF0-D08C0FD9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2B548-2ED0-4CC1-A3F2-AB794EF2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0E646-01E6-4B7A-B49B-DE1347D2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31E94-8D12-4DAE-ADEF-A0D95057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F13AF-31CC-4CDE-867C-CDAF6629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B35B5-FE27-41F5-8B8F-22C4F429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C164C-2275-42D0-BE93-7BD66B62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B5915-2FC0-44FB-BB29-2F73F92D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E9B5F-32B5-4B29-991C-CBC888F4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D57CE-0972-4D41-ABFC-B83D0C31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B7CF-6874-4686-99F7-77063500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E3C47-2CC4-449C-84C3-A21BDBB8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02330-CA89-4275-B5FC-9B17B33A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DECF9-59E1-44A2-865B-79DEC2DB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B4D29C-70D5-4C20-832B-5D151CC2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0B710-2FE1-46D5-B950-B6ED2976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87BB4-6F42-49C6-866B-AA2A26C8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A3673E-67BB-4539-8D72-BA2DE8A0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B4478-0CBE-45A2-A066-DD13EAC6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EC2A9-9BAE-4D1A-BC1E-B335724D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75BF4-D901-4F88-B22B-0D571A37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D4C3-384B-4BD4-A444-D9E24952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84C8F-E550-4213-A8DF-600A3769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F4CCA-0DE2-4834-B0DD-CC4B85DA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4FCA9-7D3D-4214-8806-41FB55D4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FB15C-93D0-4EED-8663-7413F404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5C730-2BF6-4213-96C5-B7DEA88D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74AC8-C135-4135-82F9-6ABECC2B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10D1E-FD17-4C4E-9481-EE237BFA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CBF12-6E28-4F88-BBD3-991C2808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87FA6-FD34-4CCE-A8CF-86446709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F0E58-66F3-46EF-9143-70F0B989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FE29-BD8A-4EDE-BCD9-B67DEE9E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75296-89E9-4428-AD5D-8032171C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13890-E5D0-4F2B-AA4B-F4811B66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F7026-4C52-420F-8742-64E1E3F6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DF4B4-D7B9-4FB0-9DF1-84CA08CB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B5B88-46A9-4326-AE37-C5A2EF9F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B18D6-D216-4FE6-B609-A6C87400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822A0-EE20-49E2-9F9D-41BF4ED5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188226-3E0C-4B11-A857-200EE1A4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7A217-C7FE-4CF4-B312-02C8872A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57E38F-ADE7-461B-B3A4-B8D5AE88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0386-C59C-4428-B14C-3D992E0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9649BF-11B4-47A7-8656-B52F083F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AF0E5E-D4B2-483B-9FDF-93E6B8ED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BD05B7-279D-4020-8E09-A30E379D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71A2A7-C8B7-4B2D-B13D-2FA6CAA4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661EDA-2FA5-4981-863E-6641A4EC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98A7D5-69F5-4965-B3C4-1BE46EB2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C737A6-221C-42AB-B7E9-2D153938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E0FC9E-BA31-41B1-AA1C-3B391476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6685D-E9F1-4AAF-B7EB-7D57C409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227C18-BA28-4503-BD76-791CAF3C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802-6220-41E8-8ACB-883FD485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AD85-04FF-49CE-BB5A-379F7E86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F7042-26F3-4905-BF54-53E11552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1BE6A-6415-46DA-9752-51BE5E68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27F750-3AD4-4561-88A2-3245EC95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A3266-04E0-4B9D-BCED-D4054C20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A0C54A-4889-4EFD-BA59-941C0823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F58855-3422-4BCC-B8A3-1997702F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CC4E82-8C4F-4C71-ACB6-B8D1C205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2A7DAC-617B-4367-A68D-2771B229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02AEB-36A9-408A-BDB2-34BB9BEA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2CFE2-383E-42D3-85C6-B9C942FD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0836-EA1E-4E73-A58E-C704E053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CE2EDB-F9C1-41FE-803E-632ECAE7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C87C6-AD3A-4117-8F4D-D13E4D97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98FDB-E2A0-41E5-A874-49570EAC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1DFCC6-9C91-48E2-A130-A1C6B783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3E9AE5-4FEA-40FE-8061-695F4F88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80127-D69F-4864-87BF-8C50B592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0FC9D-D25E-43A2-B158-08470E9F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497B4F-BD73-4FDA-B42D-722D2AB7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81CB9C-3AE5-4C91-8183-FE41BDD9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5CA2A-EABE-4062-A374-0FB02489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914B-8750-4FAB-AC45-22EA2371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3D21A7-CD08-45FD-B656-D2E43C60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F3DD7-9059-4F1E-AABD-231B6518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6E8016-0C34-4171-AC6D-48806511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4829AD-FD38-4906-8B74-E47E1617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82A3B7-24A1-46A5-8B44-4BD77CFE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9F6810-1539-4227-AC0D-A8543AC7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12A78-AACB-43A6-8672-FC5D335D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43A683-E1C5-4140-96A9-1C5E8A58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B6E43D-99E2-41BB-A58B-F9F8694F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2C418F-C16C-485E-8C01-5FCD9E71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C41C-DA51-4106-9B1A-4C5C68E7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C05E32-C248-46A8-85B7-4F57F98F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DEC9C7-876A-4C64-B527-B9C3087F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94FB9F-0E80-43FA-8414-8AD43DF5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A8160D-9446-4A5D-B1B0-241C951B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5990A-5BAC-49B6-A849-9E4DC6C2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123027-279F-442F-BCBF-E3E1146F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DC593E-F2F8-407B-9782-5281B6CD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44F8FB-DE2A-47F8-A89F-EEF56467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C222F4-6DCC-4EA7-980E-53D6243F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E3DACF-2996-499F-A3F7-91EE12D6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4DC7-7FC0-4E0B-B06C-EA3B1873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0E691-E9E3-4939-A428-86709CA7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D02141-F4EA-4F94-87EE-0C691EA2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65F929-2093-47EF-AE36-BDFF65B3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04017D-D0A6-4859-9C8B-D2FC6D55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2DA9D2-6D3E-4F15-B589-6D221A46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3D18F4-A0F5-4F96-8B66-3DEF67CF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F23A75-57AF-4BB8-999D-FC29BC94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A2BC6F-F543-4569-A034-AECD4492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219BDB-7F01-4AE2-90ED-CF0F6ED2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1ED260-81B8-413C-B06D-584AEE92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1CAFE-6CC5-4D1C-89EA-3B1E0E0A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42E3A9-0F96-4C2C-870E-6A8E6446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6A6C5-9349-4C83-813C-C73BE9D2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BABB06-44FB-42E1-A2DE-966CC2B3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AA839D-5D9F-4F1D-AF51-00DCC821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3A7A47-2A30-490A-83CC-C0A82954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2A9535-B32D-4E08-A2AD-E38332B5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148EF7-6D9F-4F79-BE41-FFA719E5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5DB38F-1F4E-4695-9B09-1A12374C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BE4CD6-D816-4881-B4E4-7D662BC9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BA0251-1E99-4C78-BD43-0872D845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2332-2650-48D9-A6BC-661911B0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15E697-64A3-4776-B4B1-9528F883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346DC1-69F4-4AD6-9E1B-1C3C1FFB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3D7884-0E91-4567-AEC8-53401B38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716155-6435-4605-BF7B-105C6D8C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5C1304-3A89-43A8-85F2-B152D32A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76AB-EA0E-48AA-B030-92E7BACB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47EDF-B348-4CBB-9019-B3A26ABC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A98C-D680-473E-9BAA-7B0F3AC4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BB1-3DB0-4D22-8AB2-A1632735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0A401-E7B9-4044-AB93-45CE8118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18F3-E3AB-40C7-976C-EAFC182B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55DEF-C43A-4CAE-8456-2EC0B089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64EF-6C73-4542-8C10-CA4FDE8D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2662-602E-4A63-9463-2F1CA216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87B60-5BF9-44D0-AD61-CC427788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2539-1297-4F53-95F7-F2504802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CC12-E62D-461F-8A47-26E3A623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2BAF9-BD21-4F8A-AFA9-98AB8B91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156E-D7FE-46BF-88B7-00F7DF8F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E8C-D769-49F5-9416-CDCDFC0F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A39EA-5FA2-4A23-AA2F-EAFA3FFE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425EF-2BA2-4DB0-A969-31511DA4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F42CF-620B-4BF1-9B40-A2D477BD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DDCC-0192-4145-85EB-10150BD1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EB42F-3221-4D08-9EC2-47ED688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A9A98-B96D-4E5E-B112-F69A5BA8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0E4D2-E731-4F92-B32A-2930423B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24AC4-B425-4ECB-A629-9B42F033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BAD92-63BE-4884-B075-62A06E9F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858FF-B845-4AA7-9FB5-0C90EAA4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CB3-805D-4F4B-9C81-E3F6241B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995AF-BB08-4B34-9C73-D353A7B1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1A994-FA13-4CF8-B8A9-EFAA6793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66219-3FBC-4366-AC1A-6BF6AB66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588C2-0D88-4B03-8DB0-E8618D00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92B52-DF13-4D89-8A06-D5D4CC4F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DC007-4125-47C6-AA09-FA815614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1B1E4-3C9C-42EF-BEDC-CB8B0E57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E651F-46CF-4AF4-B6E1-C36D1DC8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88581-9500-48CF-99A5-B0BD3B0A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75AF1-978C-4C6A-8BE9-8F77BD59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FA4-5409-4E81-B87A-85C7047C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DB2CB-60C8-4588-92A3-F5530C0D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F0650-89D3-4F2C-821F-ECFB4B6E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B9F7E-E6C1-445C-8BB4-740531BB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E077B-1582-4B66-B5DE-22AF2279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85FD9-9CC4-437D-AEE5-3668858D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A4988-44DE-4DD3-96A1-72D98104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D1037-A804-4405-BA13-F534E309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C654D-3E4C-4BEF-9386-73B83D8D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F46B6-5572-430E-8D24-90CAF0BF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4225-A9B6-4ECE-BD14-5D684CA8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5A0-98C3-485F-A1B6-5D90BB23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FD5EC-E737-4AE2-AC39-561642BC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55E16-C77A-4AE3-A89F-0D08B6E3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E87B0-035A-42C0-9918-F1DB5B99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A06AE-4F38-4245-B1BC-5EAE4B1C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236A7-AD59-4F37-8248-8903728F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A3D34-8A57-40A4-ADD5-51DB4C54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D68F7-F5AA-414F-A5D1-7552E2CC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E4A3F-ADA1-44A1-8660-424C7B43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2E9E1-7142-4B78-9548-0570FEA5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8CAF6-39A9-4AAC-8AAE-96E5CD5E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D94-60F1-415D-8C9A-4BA10C9F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E8F02-8161-4825-BE10-9369C0F0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9FAD5-CD78-481F-9296-B216B19A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6D349-AC69-43B7-B8D0-126889D5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153C3-1545-4732-962C-C406EF23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3E67D-83D6-440E-9884-BD0B229E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9C26E-D3F3-44A0-B221-6660FACA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9CCEE-0CFA-4F21-ADFA-2F69397A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4CE89-2F2B-4F0B-AC92-CB191E2C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802B2-8661-40B9-A138-147B3364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8F7F2-7971-412B-8BBA-573A71DD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3E7-F099-49BA-9134-3EADEEE8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86672-00B5-4C6C-8135-660109F0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89260-FA21-47A3-BA2A-858E8D1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88E02-060E-4117-AD2A-6D262ED3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FC619-A0C9-456A-ACD8-0541C13A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1D08B-F091-4132-9BDD-13EFAE19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998AE-7CC3-441F-91A6-0E624141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F55D8-243B-4567-A0E6-35682B87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7FF9B-8533-4A97-B5F6-4D7EC724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702F7-F73E-4923-BA23-2C4CB84A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F4334-BC72-4671-9816-1DFF1D22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EC32-9424-48D5-AC3C-DA3ED06C36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DFB6-34C7-45A4-B402-B0624DED99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36EE-92C5-483A-83B3-5976E4AB00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5B32-692D-477C-8D9A-CA894134E5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2A37-2D44-49FB-A95F-A59113F08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39A4-D25A-40DF-B78E-F1A2FDFFE1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9EB0-7AA6-465B-82F6-CBE9742EF8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6F30-DDF4-4628-9032-2313F9412D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5CF3-F227-4033-ADF7-C796DC8347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844D-81FE-4953-BA87-F0AFC25BA4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C082-3EC0-4C42-8C2C-B425E2CEA2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BA03-86E4-4D6C-AA0A-9D2EBF291B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BCA6-1FE7-4FEC-B957-A1A21CE6BF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A859-DEFF-40FF-B8DB-A50E375434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7C2C-EBA8-472C-81F3-2D7896DC86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C400-5508-4C60-A1A3-AF2CC71133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4B63-8F70-422C-A904-659F7FEBAC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1F24-F8CE-43F8-93DF-921CFE149F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7BBD-0697-4339-BE4C-693C777119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7445-22EE-4B90-B8BB-A56325C04B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DAFE-688E-48F5-A7E5-3047512ED1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70E9-5344-487C-BA98-668B9FBD2D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89A8-A1B6-4D2E-A027-474FAC5FB1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1A55-BA55-4E2F-88B5-AC07FF2A87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2227-3DD3-456A-B003-EA656EF6AB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7309-38B5-434A-A549-C4992E732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7908-11FF-4A9F-B74E-113A620313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85A8-977F-4188-AC75-93597C3872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85C5-E218-46C8-99D9-719EA89B5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A581-D548-40E5-8508-8A9E6C6ACA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8845-36B2-4A0B-B105-F096B08168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5E5D-7C68-43D3-AE03-7A40AB750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7ED3-8862-40AC-AF01-CB276CA236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754C-CFF8-43A6-880D-60A76BAFF5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FC8F-DCA7-417C-9F6B-88E80BBB1D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0A34-C002-45A6-B522-CF6028B0B5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5770-69C4-4FBF-9A8E-A998362C90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59AD-D57A-49CF-9E9A-515756D00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DA83-F191-480C-B064-357119B9E8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574D-283F-4D37-BD06-E08637C988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D2DE-7F44-4343-89EA-3DF8759375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214720" y="3105000"/>
            <a:ext cx="47145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343080" y="1547640"/>
            <a:ext cx="8458200" cy="3762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885960" y="29242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2008080" y="230508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024440" y="2852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5148360" y="23209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135920" y="28670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8174160" y="23209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1965240" y="4076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4081320" y="4076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6099120" y="40910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8244000" y="40910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1965240" y="4724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4081320" y="4724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4"/>
          <a:stretch/>
        </p:blipFill>
        <p:spPr>
          <a:xfrm>
            <a:off x="6099120" y="4738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5"/>
          <a:stretch/>
        </p:blipFill>
        <p:spPr>
          <a:xfrm>
            <a:off x="8244000" y="473868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7169" descr=""/>
          <p:cNvPicPr/>
          <p:nvPr/>
        </p:nvPicPr>
        <p:blipFill>
          <a:blip r:embed="rId1"/>
          <a:stretch/>
        </p:blipFill>
        <p:spPr>
          <a:xfrm>
            <a:off x="495360" y="866880"/>
            <a:ext cx="8153280" cy="5657760"/>
          </a:xfrm>
          <a:prstGeom prst="rect">
            <a:avLst/>
          </a:prstGeom>
          <a:ln w="0">
            <a:noFill/>
          </a:ln>
        </p:spPr>
      </p:pic>
      <p:pic>
        <p:nvPicPr>
          <p:cNvPr id="979" name="图片 7170" descr=""/>
          <p:cNvPicPr/>
          <p:nvPr/>
        </p:nvPicPr>
        <p:blipFill>
          <a:blip r:embed="rId2"/>
          <a:stretch/>
        </p:blipFill>
        <p:spPr>
          <a:xfrm>
            <a:off x="5940360" y="3400560"/>
            <a:ext cx="1733760" cy="47628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7171" descr=""/>
          <p:cNvPicPr/>
          <p:nvPr/>
        </p:nvPicPr>
        <p:blipFill>
          <a:blip r:embed="rId3"/>
          <a:stretch/>
        </p:blipFill>
        <p:spPr>
          <a:xfrm>
            <a:off x="1778040" y="3457440"/>
            <a:ext cx="1757160" cy="41616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7172" descr=""/>
          <p:cNvPicPr/>
          <p:nvPr/>
        </p:nvPicPr>
        <p:blipFill>
          <a:blip r:embed="rId4"/>
          <a:stretch/>
        </p:blipFill>
        <p:spPr>
          <a:xfrm>
            <a:off x="1389240" y="6019920"/>
            <a:ext cx="2705040" cy="44748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7173" descr=""/>
          <p:cNvPicPr/>
          <p:nvPr/>
        </p:nvPicPr>
        <p:blipFill>
          <a:blip r:embed="rId5"/>
          <a:stretch/>
        </p:blipFill>
        <p:spPr>
          <a:xfrm>
            <a:off x="5435640" y="6005520"/>
            <a:ext cx="2705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图片 8193" descr=""/>
          <p:cNvPicPr/>
          <p:nvPr/>
        </p:nvPicPr>
        <p:blipFill>
          <a:blip r:embed="rId1"/>
          <a:stretch/>
        </p:blipFill>
        <p:spPr>
          <a:xfrm>
            <a:off x="1442880" y="2219400"/>
            <a:ext cx="6258240" cy="241920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8194" descr=""/>
          <p:cNvPicPr/>
          <p:nvPr/>
        </p:nvPicPr>
        <p:blipFill>
          <a:blip r:embed="rId2"/>
          <a:stretch/>
        </p:blipFill>
        <p:spPr>
          <a:xfrm>
            <a:off x="2050920" y="3959280"/>
            <a:ext cx="27054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13:4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